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CE5A-6089-427B-8942-7A8B0E375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8025-D8A2-428B-8B34-0557743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1379-6724-4F6E-A31E-C24EFDC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41C8-16DA-4F20-95A8-FEB9D8BF7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D7B2A-1BA7-4653-96D0-A59E23CEC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128F2-80C8-4495-BBBD-3BD5607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91C4-DEBF-438D-AB24-D3C68DA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D2040-3ECF-4C1B-91C0-5002E00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4046-515C-411E-B8D3-EFEA73D3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2500B-0D95-408F-BBB6-AE43F1A6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8BA58-B050-4F8C-B3F1-BA547943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9660-FA5B-4866-BA0C-A534DB6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BDC1-E5EA-4D80-B2BF-70C1666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E11AB-ABCB-43E8-A22F-9E0816C2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B1DED-CD2C-4FE2-B5D3-400F12C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B0AB6-26DF-49E2-8342-E401D9E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6802-FA9A-44CC-8694-D39B6D889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81C0-15F0-4256-9662-B2A5D922B7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CBB-63DE-4AD7-98DD-1548AB7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F92E-B7D4-4C43-A2D5-3D1C441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CAD0-E870-47F3-94B5-D4391BF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FF18-18F8-4E92-973A-03D5F251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18F6-22A4-46AE-9B98-2C8CFE0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D63-2072-4C09-AF78-66AF3CFA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D50-50CA-48F3-B924-739D799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CDCB-9D4F-42D3-BB1B-936C9E73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F09-C278-4031-A7E2-F88DCDD9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52C8-6BBF-46AE-B67F-4654CFEE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913C-1DAF-422A-B555-FF7E946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FA0-E754-4DB9-A9F2-82F131688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B1771-1FFE-47F9-A109-7A99741F0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ABCE0-1092-4FB9-956F-EF11F4F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223DD-FFDC-41F3-8685-E16E37D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E82A-752D-4840-BF59-D433FEF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AC63F-F223-4B53-8DD8-8AA313F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9F631-CE3E-4A8A-A6FE-85C54E1F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A4114-60EB-4389-B6BD-7403DA23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5E68-B684-4741-9EC5-18C8749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4626D-2F1A-47EB-BCCC-C34CE31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C0B4F-C4F7-49FA-A4E2-B318BE4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0E959-C86E-4EDC-A4A0-4140C75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61F51-833F-4574-89F3-A469245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BF448-9C14-49CA-91B0-DDA5B0975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DF99C-3BFC-4E57-97F2-155E86909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C159-E1B0-40AC-8399-0C9BBE59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628D8-B761-419A-B4A6-CBC8D9C6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C27F3-034F-4151-A5FF-8DD0D6BD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1FCDF-211D-4DB3-BDA0-E6FE8D8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1FFAA-3938-437F-A9F3-8AE2E257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5DECD-20D8-4588-B465-A6B91D72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66DFB-76B8-4383-892F-B4A084E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D3F03-1FD9-414B-A65C-65AF101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8EEE9-8951-4868-B0E4-D629C699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797E3-ACEE-4851-B6AA-B14862F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9314B-AE51-4ABA-8388-9ED1CA8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D3DF-5105-4EDE-B617-13483388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F2EC9-78E3-4270-97FF-CFF3C9F42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C2D1-AABF-4166-A686-4DA60F042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FCC7-70C9-404C-A2A4-AAF6AA9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8B3E-677D-453C-867E-24D1688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352D-5AB0-48DD-9093-634DC718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6206-43BC-42C8-8627-EFA0D9D5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7613-0C53-40EF-A6C7-D37B2D8A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431E-B523-4507-B510-E5493C7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F276-3B17-4218-85A9-28D24EC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7407-5790-42CF-A244-CED36AE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0BB2-E995-4A50-A21A-EBD1F9F2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0768-D2F3-4C86-991C-B3FFD3CA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72BD-80E7-4E07-9634-771E7FB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23CD-786B-4FAC-BB91-E27ABADA6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5F11D-D959-43A1-90D4-980CAD937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DCBB-48F8-4EFE-A49A-8E8D580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99797-D411-4FB8-905B-6D332152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F46CF-6315-4BC0-8BE7-0628E1BA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480C7-6FA6-450F-9DE5-D56F9A00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9F2A8-1935-452C-B5BA-5146B451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0BDF9-1D9B-4E23-92A8-F1EA647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8B56-0502-4C33-827C-1615C149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A16CB-1E94-4BDC-AD13-21976BFA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DC2E8-B202-4A6B-AF0F-68D22B45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05C19-7676-45D2-A6D1-29BD2D4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3C5F6-B0CF-45FE-910F-A3189F7A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06F1B-EAB6-4C79-9547-B1E13926F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7530D-A22B-47D1-9751-618EAB5C9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8205B-13A2-4F93-ACC8-7472421A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011AA-4ED9-45A5-8D27-BA687AB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1459E-317A-4D41-B5CE-7CA4D6E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F26FBE-557A-455D-B3BD-BA00FF1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EFD0-B1A6-4183-B864-FE990A8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64800"/>
            <a:ext cx="822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A9DCFE-A8CC-4EF8-8386-77FF8E63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4850E3-1B1C-4362-BE16-1DDB56E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58291-38C1-4274-BAF3-425057B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79066-529E-42F8-AEF5-5BA79D0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79640"/>
            <a:ext cx="82216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00BD6-1189-46D5-AC49-0635487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9920" y="3779640"/>
            <a:ext cx="4011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EEF4B2-E2FD-4056-AE13-52702D1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712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16680" y="3779640"/>
            <a:ext cx="26470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E7E62-B367-4F6C-8A12-BA805130C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1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3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2CC1E-F4AA-4CE2-AC10-FEFEB70ADBEF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360"/>
            <a:ext cx="2278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360"/>
            <a:ext cx="12110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933FB9-33EF-4053-9C3D-CC08FCEEBAA3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800" y="6354360"/>
            <a:ext cx="2278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13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28084B-A37B-46F1-ABCC-4AB75538941C}" type="slidenum"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1973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2F0AD5-52B2-481F-A7C5-8F9A08DB934C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520"/>
            <a:ext cx="1973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78BC81-B64F-40F1-A869-7C010526FA17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440" y="6356520"/>
            <a:ext cx="228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73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031258-4B46-438E-ABF0-E189AF3BDEF9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520"/>
            <a:ext cx="1973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36A519-67A6-460D-84C7-13C0AC62A701}" type="slidenum"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2660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440" y="6356520"/>
            <a:ext cx="228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520"/>
            <a:ext cx="1973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D6F542-EB7C-412A-A9C6-6F638AE03538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resonance@ua.f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resonance@ua.f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llyuba@inbox.ru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42920" y="981000"/>
            <a:ext cx="6858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UGNIW</a:t>
            </a:r>
            <a:br>
              <a:rPr sz="4000"/>
            </a:br>
            <a:r>
              <a:rPr b="1" lang="en-US" sz="2600" spc="-1" strike="noStrike">
                <a:solidFill>
                  <a:srgbClr val="464653"/>
                </a:solidFill>
                <a:latin typeface="Arial Black"/>
              </a:rPr>
              <a:t>najmniejsze miasto na Ukrain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87280" y="378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sparcie udzielone przez Norwegię poprzez dofinansowanie ze środków Norweskiego Mechanizmu Finansowego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 ramach Programu Wsparcia Inicjatyw Transgranicznych w Euroregionie Bug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uk-UA" sz="1200" spc="-1" strike="noStrike">
                <a:solidFill>
                  <a:srgbClr val="000000"/>
                </a:solidFill>
                <a:latin typeface="Arial Black"/>
              </a:rPr>
              <a:t>Współpraca transgraniczna Werbkowice - Ugniw</a:t>
            </a: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790560" cy="361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780000" y="5229360"/>
            <a:ext cx="2104920" cy="361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36180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о Угнів згадується у “Повісті временних літ” (найдавнішому українському літописі) від 1030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же у ті часи у місті працювали шевський, ковальський, гончарський, кушнірський, та ткацький це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о входило до Белзької оборонної округи. І згадується серед Червенських городів таких як Червень, Волиня та Бел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340 року, разом з Белзьким князівством Угнів перейшов у спадок до Литовських князів. 1360 року князь Теодор Любартович заснував Угнівський монастир для поляків та латинн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2960" y="1268280"/>
            <a:ext cx="80438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366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zie Korony Pol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wo Magdeburskie na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zimierz IV w roku 14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roku 1772 razem z innymi ok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i wchodzi do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 cesarstwa Austriackiego, a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j Austro-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er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roku 1800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worzony powiat Ugniow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ku 1880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ybudowana stacja ko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jow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 wybuchem Pierwszej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wybudowano i otwarto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ro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l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gniw-Ul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h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k-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zcz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-Hrubiesz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366 року Угнів знаходився під владою Поль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гдебурзьке право надав Казими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 1462 ро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772 році разом з іншими територіями переходить під владу Австрійської, а пізніше Австро-Угорської імпер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00 року було утворено Угнівський пові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80 року збудована залізнична стан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д Першою світовою війною була збудована і запрацювала вузькоколійна залізни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Угнів-Ульгівок-Лашів-Грубеш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2960" y="1268280"/>
            <a:ext cx="804384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wybuchem I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carskie wojska zdobyli Ugniw 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cjonował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 do 15 czerwca 1915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o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zeniu w 1918 roku Ukrainskiej Republiki Ludowej w Ugni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worzony komisariat powiato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1919-1939 latach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p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ie Polsk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9-1941 lata okup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owieckiej. Ugniw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ed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jo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1-1944 lata okupacji Niemieckiej oraz totalna ekstermin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ud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dowskiej ( do II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w Ugniwie 1880 o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2960" y="1268280"/>
            <a:ext cx="80438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вибухом Першої світової війни російські царські війська захопили Угнів і перебували тут до 15 червня 1915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проголошенням 1918 року Західно-Української Народної Республіки в Угнові було створено повітовий комісарі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19-1939 роки Угнів знаходився під владою Поль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39-1941 роки Радянської окупації. Угнів був районним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41-1944 роки Німецьке панування і практично цілковите знищення єврейського населення (до війни їх проживало в Угнові 1880 осі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944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zie Polski 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czasu d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SSR w roku 195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49520" cy="424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5040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944 року Угнів знаходився під владою Польщі аж до часу поновленого прилучення до СРСР у 1951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49520" cy="424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5040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Interesuj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ą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e ob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i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ekty</a:t>
            </a: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09640" y="900000"/>
            <a:ext cx="782964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rkiew Narodzenia NMP (1855-1857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a)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zwonnica drewniana 1780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ku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osci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ół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niebowzi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ęc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a NMP (XVII wieku)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ynagoga XIX wieku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Цікаві об'єкти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57160" y="1219320"/>
            <a:ext cx="78296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Церква Різдва Пресвятої Богородиці (1855-1857 рр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Дерев'яна дзвіниця 1780 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Костел Успіня Богородиці (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инагога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Przedsi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ę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biorcz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l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mi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Restauracj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bli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i przerabianie produkcji rolniczej (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, mleczarnia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ata 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zkoła zawod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odstaw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Zdrowot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zpital, klini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z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42920" y="981000"/>
            <a:ext cx="6858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 Black"/>
              </a:rPr>
              <a:t>УГНІВ</a:t>
            </a:r>
            <a:br>
              <a:rPr sz="4000"/>
            </a:br>
            <a:r>
              <a:rPr b="1" lang="uk-UA" sz="2600" spc="-1" strike="noStrike">
                <a:solidFill>
                  <a:srgbClr val="464653"/>
                </a:solidFill>
                <a:latin typeface="Arial Black"/>
              </a:rPr>
              <a:t>найменше місто в Украї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378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sparcie udzielone przez Norwegię poprzez dofinansowanie ze środków Norweskiego Mechanizmu Finansowego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 ramach Programu Wsparcia Inicjatyw Transgranicznych w Euroregionie Bug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uk-UA" sz="1200" spc="-1" strike="noStrike">
                <a:solidFill>
                  <a:srgbClr val="000000"/>
                </a:solidFill>
                <a:latin typeface="Arial Black"/>
              </a:rPr>
              <a:t>Współpraca transgraniczna Werbkowice - Ugniw</a:t>
            </a: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790560" cy="361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780000" y="5229360"/>
            <a:ext cx="2104920" cy="361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36180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Підприємництв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оргів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лади харчуванн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готовлення меблів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бір та переробка сільськогосподарської продукції (млин, молочарня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віта (Професійно-технічне училище, школа, дитячий садоч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дицина (лікарня, поліклініка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Statystyka il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i ludn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5880" y="1219320"/>
            <a:ext cx="7900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86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400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50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2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57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63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9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8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22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9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17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12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Не втішна статистик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5880" y="1219320"/>
            <a:ext cx="7900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869 року – 4003 ос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00 року – 50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24 року – 3575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1 року – 3639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9 року – 39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87 року – 22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90 року – 17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000 року – 12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Perspektywa rozwoj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5880" y="1219320"/>
            <a:ext cx="79009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nie do B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go P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owego historycznego rezerwa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cja pr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wsp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y miedzynarodow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 turysty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worzenie warun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dla rozwoju m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o bizne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orzenie proje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inwestycyjnych oraz z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nie do nich potenc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nych inwestor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Перспективи розвитк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85880" y="1219320"/>
            <a:ext cx="79009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ення в Белзький Державний історико-архітектурний запові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я проектів міжнародного співробітниц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передумов для розвитку малого підприємниц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а інвестиційних проектів та пошук потенційних інвест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523880" y="1144440"/>
            <a:ext cx="6096240" cy="4591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2852640" y="1154160"/>
            <a:ext cx="34387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523880" y="1144440"/>
            <a:ext cx="6096240" cy="4591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NGO, PODMIOTY GOSPODARCZE, PODMIOTY JST , KULTURALNE DZIAŁAJĄCE WE WŁAŚCIWOŚCI TERENOWEJ I WSPÓŁPRACUJĄ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 MIASTEM UGNIW - UKRAI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rganizacja Dobroczynna ‘Centrum inicjatyw oświaty’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ierownik organizacji Helena Szynarowska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ta utworzenia/rejestracji 28-03-1996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formacja kontaktow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dres woj. Lwow, 7905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l. Czornowola, 4, pok. 1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+(38) 032 297 17 94, 297 18 5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 coi@dialog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ona internetowa www.dialog.lviv.ua/co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dstawowe kierunki działalnośc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ą misją organizacji jest wychowanie obywateli społecznie aktywnych przez wsparcie rozmaitych inicjatyw w sferze oświaty i nauki. Organizacja współpracuje z partnerami polskimi, wymieniając się doświadczeniami, nawiązując kontakty przez realizacje międzynarodowych akcji. Te międzynarodowe projekty tworzą misje i zadania działalności, a doświadczenie, otrzymane przez współprace z partnerami z zagranicy, skutecznie poszerzane jest wśród innych ukraińskich organizacji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zasadzie organizacja pracuje w takich kierunkach jak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poparcie inicjatyw lokalnych i innowacji wykształcenia średniego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rozwój międzynarodowej sieci organizacji społecznych, które pracują w sferze oświat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rozwój oświaty społecznej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Miejsce p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ł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ż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enia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500120"/>
            <a:ext cx="84009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ż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ne na zachodzie Ukra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W Sokalskim powiecie, znajduje si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ę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na p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nocy obwodu Lwowsk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Na brzegu rzeki Solokiji (lewego dop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ywu B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gu Zachodnie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rawie na granicy pa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ń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stwowej Ukrainy z Rzecz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spolit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ą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Polska, kt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ra wchodzi do sk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adu Unii Europejskie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Благодійна організація "Центр освітніх ініціатив"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Керівник організації: Олена Шинаровськ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Контактна особа: Олена Шинаровськ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Організаційно-правова форма : Благодійна організація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Дата створення / реєстрації : 28-03-199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Контактна інформація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дреса : Львівська область, пр. Чорновола, 4, кім. 1, 7905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ефон : (+38) 032 297 17 94, 297 18 5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 : coi@dialog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ерсональна сторінка: www.dialog.lviv.ua/co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Основні напрямки діяльності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Основна місія організації – виховання суспільно активних громадян шляхом підтримки різноманітних ініціатив в сфері освіти і науки. Організація співпрацює з кількома польськими партнерами у сфері передачі досвіду, налагодження контактів та реалізації міжнародних акцій. Усі ці міжнародні проекти укладаються в місію та завдання діяльності, а досвід, отриманий у співпраці з іноземними партнерами, успішно поширюється серед інших українських організацій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В основному організація працює за напрямками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ідтримка локальних ініціатив та інновацій у сфері середньої освіти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розвиток міжнародних мереж громадських організацій, що працюють у сфері освіти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розвиток громадянської освіт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1440000" y="234000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4500720" y="306072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gencja rozwoju powiatu Sokal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gencja rozwoju powiatu Sokal – społeczna organizacja, stworzona 28 marca 2005 roku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ele działalności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iązywanie problemów rozwoju socjalno-ekonomicznego powiatu Sokal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rzyjanie rozwoju małego i średniego biznesu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ejscowa transgraniczna współprac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-479160"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poznawanie się z doświadczeniami światowymi, usługi ekonomiczne, usługi prawa, usługi oświaty na rzecz obywateli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gencja rozwoju powiatu Sokal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dres: 80000, woj. Lwó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. Sokal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. Szeptyckiego, 4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(03257) 7-37-6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485640" indent="0" algn="ctr">
              <a:lnSpc>
                <a:spcPct val="100000"/>
              </a:lnSpc>
              <a:buNone/>
              <a:tabLst>
                <a:tab algn="l" pos="0"/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rr@bis.net.ua ; www.agencija.sokal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Сокальська Агенція регіонального розвитку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окальська Агенція регіонального розвитку – громадська організація створена 28 березня 2005 року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Мета діяльності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вирішення проблем соціально-економічного розвитку Сокальського району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прияння розвитку малого та середнього бізнесу, регіональне транскордонне співробітництво,використання світового досвіду, надання економічних, правових, освітніх послуг на користь громади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Сокальська Агенція Регіонального Розвитку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дреса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0000, Львівська обл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м.Сокаль, вул.Шептицького 45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 (03257) 7-37-6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rr@bis.net.ua www.agencija.sokal.lviv.ua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1908000" y="2700360"/>
            <a:ext cx="1692360" cy="25318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4680000" y="3060720"/>
            <a:ext cx="2224080" cy="1671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rganizacja przewodników górskich ‘Rowin’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acja powstała 17 stycznia 2008 roku przez współdziałanie rozwoju turystyki Lwowa i magistratu m. Drogobycz i innych osób zainteresowanych w ramach programu ‘Dobrosasiadstwo’ Polska – Biaoruś – Ukraina Interreg IIIA/Tasis CBC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rganizacj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st bezdochodowa, niezależna, niekomercyjna, która łączy fachowców turystyki w Ukrainie i innych państw (Węgry, Słowacja, Polska I Rumunia) oraz pozostałych zainteresowanych współpracą państw, ułatwia im podróżowanie, krajoznawcza działalność w Ukrainie i przygranicznych terenach, reprezentuje interesy członków w urzędach i na forum społecznym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 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2195, Ukraina, woj. Lwo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iat Drohobycz, w. Dowge, ul. Lesi Ukrainki, 3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+ 38 067 737 61 6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Е-mail: rovin@i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соціація Гірських Провідників «РОВІНЬ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Була створена 17 січня 2008 року з ініціативи Львівської Асоціації Розвитку Туризму та Дрогобицької Районної Ради, а також зацікавлених  осіб в рамках реалізації програми «Добросусідство» Польща-Білорусія-Україна Інтеррег ІІІА/Тасіс СВС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соціація є неприбуткова, незалежна, добровільна, некомерційна організація, яка об'єднує фахівців туристичного супроводу з України та прикордонних країн (Угорщини, Словаччини, Польщі та Румунії), а також інших зацікавлених у співробітництві країн, полегшує їм подорожування, краєзнавчу діяльність в Україні та у транскордонному регіоні, а також репрезентує їх інтереси стосовно органів влади і суспільств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соціація провадить діяльність на громадських засадах членів, і для виконання своїх завдань може їх працевлаштовуват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2195, Україна, Львівська область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Дрогобицький район, с. Довге, вул. Лесі Українки, 3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. + 38 067 737 61 6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Е-mail: rovin@i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5400" y="120456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81040" y="1808280"/>
            <a:ext cx="2838600" cy="39528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708360" y="1981080"/>
            <a:ext cx="476244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wowska asocjacja rozwoju turystyki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orzona w sierpniu 2000 roku z poparcia Ministerstwa Rozwoju Międzynarodowego Wielkiej Brytanii I Lwowskiego Magistratu razem z biurami podroży i organizacjami prywatnymi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ART – bez dochodowa organizacja, która liczy 60 członków, prezentuje i zabezpiecza partnerstwo miedzy sektorami państwowymi i prywatnymi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rganizacj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łączyła urzędy państwowe i interesy prywatnych organizacji turystycznych dla propagandy Lwowa i całego województwa jako centrum turystycznego za granicą i na Ukrainie, a także koordynuje działalność skierowaną na rozwój turystyki oraz sprzyja rozwojowi infrastruktury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08, Ukraina, m. Lwo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. Tyktora, 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+38 032 297 57 5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ax. +38 032 297 57 6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ltb@mail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Львівська Асоціація Розвитку Туризму (ЛАРТ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творена у серпні 2000 року за підтримки Міністерства Міжнародного Розвитку Великої Британії (DFID) та Львівської Міської Ради у партнерстві із приватними туристичними фірмами та організаціям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ЛАРТ – це членська (60 Членів) неприбуткова організація, яка представляє та забезпечує партнерство між державним та приватним сектора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соціація об’єднала органи державної виконавчої влади та інтереси приватних туристичних структур з метою пропагування Львова/області як туристичного центру за кордоном та в Україні, а також, координує діяльність та ініціативи спрямовані на розвиток в’їзного туризму та сприяє розвитку належної інфраструктур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08, Україна, м. Львів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вул. Тиктора, 5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. +38 032 297 57 51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факс. +38 032 297 57 67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ltb@mail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Місце розташува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500120"/>
            <a:ext cx="840096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Розташоване на заході Украї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В Сокальському районі, що знаходиться на півночі  Львівської обла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На березі річки Солокії (лівої притоки Західного Бу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Практично на Державному кордоні України з Республікою Польщею яка входить в Європейський Сою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entrum turystyczno-informacyjne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orzone w 2000 roku, przynosi korzyści gościom Lwowa i jego mieszkańcom. Centrum wspomaga turystów i mieszkańców Lwowa. Posiada sieć turystyczno-informacyjną punktów we Lwowie/województwie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czasie swego istnienia sieć Centrum udzieliła ponad 65 tys. bezpłatnych usług turystyczno - informacyjnych. Centrum prowadzi kursy przewodników i pilotów - tłumaczy we Lwowie, przewodników po zamkach Lwowszczyzny, przewodników górskich i inne. Rozpowszechnia także wydawnictwa promocyjne, skierowane na propagandę wypoczynku we Lwowie I okolicach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08, Lwo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. Rynek, 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297-57-5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ax. 297-57-6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е-mail: ltb@mail.lviv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Туристично-Інформаційний Центр (ТІЦ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творений у 2000 році, приносить користь як гостям Львівщини так і його мешканцям. У туристичному центрі безкоштовно надаються різноманітні інформаційні послуги туристам та мешканцям Львова/області. Туристично-Інформаційний Центр володіє мережею туристично-інформаційних пунктів у Львові та області. За період своєї діяльності, мережею ТІЦ надано понад 65 тисяч безкоштовних туристично-інформаційних послуг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ІЦ проводить серію ліцензованих професійних курсів: екскурсоводів та гідів перекладачів по м. Львову, екскурсоводів по замкам Львівщини, гірських провідників, курс перепідготовки фахівців туристичного супроводу. Займається видавництвом промоційної літератури скерованої на пропаганду відпочинку на території Львівщин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08, Львів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лоща Ринок, 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. 297-57-5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факс. 297-57-6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m Twórczości Dzieci i Młodzieży na Łyczakowie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oddział Ministerstwa Oświaty i Nauki Ukrainy, który jest podporządkowany zarządowi oświaty oddziałowi humanitarnej polityki magistratu Lwowa, oddziałowi oświaty administracji powiatowej na Łyczakowie. Organizuje, prowadzi usługi oświatowe i kulturalne w rozmaitych kierunkach takich jak taniec, śpiew, muzyka, kierunek krajoznawczy i inne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10 m. Lwow, ul. Lyczakowska, 9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Lbdut@i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1209600" y="4110120"/>
            <a:ext cx="1419480" cy="1866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Личаківський будинок дитячої та юнацької творчості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ідрозділ Міністерства освіти і науки України, який підпорядкований Управлінню освіти департаменту гуманітарної політики Львівської міської Ради, зокрема відділу освіти Личаківської районної адміністрації. Займається організацією та наданням освітніх послуг в сфері позашкільної освіти в різних напрямках, зокрема: хореографія, танці, співи, музика, краєзнавчий напрямок та ін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10 м.Львів, вул. Личаківська, 9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Lbdut@i.u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: (38 032) 275-97-4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1136520" y="4103640"/>
            <a:ext cx="1419480" cy="1866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undusz dobroczynny terytorialny ‘Rezonans’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orzony we wrześniu 2003 roku jako organizacja bez dochodowa. W skład organizacji weszli młodzi, ale doświadczeni liderzy ruchu obywateli Lwowszczyzny. Celem działalności funduszu jest ochrona praw człowieka, propaganda wartości społeczeństwa demokratycznego, drogi i metody jego formowania w Ukrainie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ierunki działalności organizacji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ania praktyczne dla ochrony praw człowiek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e terytorialnych i państwowych lekcji w tematyce ochrony praw człowiek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naliza prawa Ukraińskiego w stosunku do prawa międzynarodowego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adania ukraińskiej praktyki sądowej dla ochrony praw człowiek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alność informacyjna, skierowana dla propagowania ochrony praw człowieka na Ukrainie, rozwój społeczeństwa, integracja europejska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undusz ‘Rezonans’ współpracuje ze społecznymi organizacjami w zakresie ochrony prawa na Ukrainie i za granicą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РБФ “Rezonans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. Chmielnickiego, 95/14, m.Lwow, 7901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(032) 2971932, e-mail: </a:t>
            </a:r>
            <a:r>
              <a:rPr b="0" lang="pl-PL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sonance@ua.f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yrektor – Helena Grabowsk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1260360" y="5219640"/>
            <a:ext cx="809640" cy="685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Регіональний благодійний фонд „Резонанс”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Був заснований вересні 2003 року як неприбуткова організація. До складу організації увійшли молоді, проте досвідчені лідери громадського руху Львівщини. Завданням діяльності Фонду є захист прав людини, пропаганда цінностей демократичного суспільства, шляхів і методів їх становлення в Україні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Напрямки роботи організації: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рактичні дії на захист прав людини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роведення регіональних та всеукраїнських моніторингів дотримання прав людини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аналіз чинного законодавства України на предмет його відповідності міжнародним стандартам; розробка рекомендації по вдосконаленню внутрішнього законодавств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дослідження української судової практики з питань дотримання прав людини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384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росвітницька та інформаційна діяльність, спрямована на пропаганду дотримання прав людини в Україні, розвиток громадянського суспільства, європейську інтеграцію. 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Фонд „Резонанс” тісно співпрацює з громадськими правозахисними організаціями в Україні та за кордоном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Контактна адреса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РБФ “Резонанс”, вул. Б.Хмельницького, 95/14, м. Львів 79019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. (032) 2971932 , e-mail: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sonance@ua.fm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Директор - Олена Грабовськ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1125360" y="5533920"/>
            <a:ext cx="809640" cy="685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dsiębiorca Ivan Gorbats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wadzi działalność, powiązaną z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pracą biur podroży, przekazywaniem informacji o biurach podroży i trasach turystycznych; organizacją wycieczek i pracą przewodników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 przekazywaniem informacji i pomocy państwowym oraz prywatnym organizacjom w takich sferach działalności jak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ontakty ze społeczeństwem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opracowanie koncepcji rachunkowych,programów kontroli wydatków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onsultacja i pomoc praktyczna państwowym i prywatnym przedsiębiorcom oraz urzędom w planowaniu, zabezpieczeniu efektywności, kontroli, informacji dla zarządu i inn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ubezpieczeniem, działalnością kurierską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organizacją jarmarków, seminariów, kongresów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usługami pośrednictw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pośrednictwem w imieniu osób trzecich, powiązanym z branżą rozrywkową, składaniem kontraktów na udział w filmach, rozrywkowych i sportowych wydarzeniach, wydawaniem książek, obrazów, fotografii itp. - wydawcom i reżyserom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55, m. Lwow, ul.Powitriana 94/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 +38 032 271-90-2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l-PL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lyuba@inbox.r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Приватний підприємець Горбацьо Іван Іванович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Провадить діяльність пов’язану з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функціонуванням бюро подорожей та туристичних агентств, наданням інформації про туристичні подорожі та маршрути, організацією подорожей та працею екскурсоводів та гідів-перекладачів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наданням консультацій та практичної допомоги державним та недержавним підприємствам та установам у таких сферах діяльності: зв'язку із суспільством; розроблення концепцій бухгалтерського обліку, програм обліку видатків, процедур контролю за виконанням кошторису; надання консультацій та практичної допомоги державним та недержавним підприємствам та установам в плануванні, з організаційних питань, забезпечення ефективності, контролю, інформації для управління тощо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страхуванням, діяльність страхових агентів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організація ярмарків, виставок, конгресів тощо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наданням послуг з посередництва різного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здійсненням від імені окремих осіб та пов'язану із складанням контрактів (договорів) на участь у кінофільмах, театральних постановах та інших розважальних чи спортивних заходах, а також із наданням книг, п'єс, речей образотворчого мистецтва, фотографій тощо видавцям, продюсерам тощо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9055, м.Львів, вул. Повітряна 94/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Тел. +38 032 271-90-2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-mail: llyuba@inbox.r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ospodarstwo farmerów ‘Zachód – Agro’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fera działalności – produkcja i realizacja oryginalnego, elitarnego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produkcyjnego materiału siewnego i sadowniczego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d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0066, woj. Lwo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iat Sokal, w.Kariw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. Szewczenko, 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\fax: (+380 67) 209-72-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431280"/>
            <a:ext cx="82278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Wsparcie udzielone przez Norwegię poprzez dofinansowanie ze środków Norweskiego Mechanizmu Finansowego w ramach Programu Wsparcia Inicjatyw Transgranicznych w Euroregionie Bug "</a:t>
            </a:r>
            <a:r>
              <a:rPr b="1" lang="uk-UA" sz="1000" spc="-1" strike="noStrike">
                <a:solidFill>
                  <a:srgbClr val="464653"/>
                </a:solidFill>
                <a:latin typeface="Arial Narrow"/>
              </a:rPr>
              <a:t>Współpraca transgraniczna Werbkowice - Ugniw</a:t>
            </a:r>
            <a:r>
              <a:rPr b="1" lang="pl-PL" sz="1000" spc="-1" strike="noStrike">
                <a:solidFill>
                  <a:srgbClr val="464653"/>
                </a:solidFill>
                <a:latin typeface="Arial Narrow"/>
              </a:rPr>
              <a:t>"</a:t>
            </a:r>
            <a:endParaRPr b="0" lang="en-US" sz="1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5400" y="1115640"/>
            <a:ext cx="82278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Фермерське господарство "Захід-Агро"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фера діяльності: виробництво та реалізація оригінального, елітного та репродукційного насіння і садивного матеріалу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0066, Львівськ область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Сокальський район, село Карів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вул. Шевченка, 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.\fax: (+380 67) 209-72-8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ЄДРПОУ 3300362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50960" y="326880"/>
            <a:ext cx="718920" cy="3272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645000" y="326880"/>
            <a:ext cx="1906560" cy="3272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8001000" y="326880"/>
            <a:ext cx="326880" cy="3272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Miejsce p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ł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ż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enia</a:t>
            </a: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1500120"/>
            <a:ext cx="84009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Місце розташува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1500120"/>
            <a:ext cx="84009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344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4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4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Ludn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ść</a:t>
            </a: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509840"/>
            <a:ext cx="840096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Razem</a:t>
            </a: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1115 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s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b.</a:t>
            </a: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1021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mieszka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ń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c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w w miasteczku Ugniw i 94 we wsi Zastaw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ż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ne na przestrzeni 302ha (w tym na wiosk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ę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Zastawne przypada 54h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Населе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500120"/>
            <a:ext cx="8400960" cy="58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1021 мешканець у місті Угнів та 94 у селі Заставне. Разом 1115 осіб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Розташоване на площі в 302 га (з яких на село Заставне припадає 54 г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34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488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941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1219320"/>
            <a:ext cx="80438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a wzmianka o Ugniwie pojawiła się już w 1030 roku 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o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wriemiennych lat" ( najdawniejszym latopisie Ukrainy ) od 1030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u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tych 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ch w m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chy szewski, kowalski, garncarski, kuśnierski, tkac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sto wchod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o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go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a. I wspomina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takich gr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Czer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ch, jak Czer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340 razem z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em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im Ugni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hodzi do dziedzictwa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ż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Litewskich. Roku 1360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ż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odor Lubartowicz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lasztor Uniowski ob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n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6:00:05Z</dcterms:created>
  <dc:creator>IBM</dc:creator>
  <dc:description/>
  <dc:language>en-US</dc:language>
  <cp:lastModifiedBy>Admin</cp:lastModifiedBy>
  <dcterms:modified xsi:type="dcterms:W3CDTF">2010-06-24T12:04:36Z</dcterms:modified>
  <cp:revision>20</cp:revision>
  <dc:subject/>
  <dc:title>Доступність коштів Європейського Союзу для України</dc:title>
</cp:coreProperties>
</file>