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4144-B62A-4EA5-93A9-67C02343E5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825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8907-6EEA-48E2-94B3-2AC79CB5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37ED-3767-4002-89FB-FC30BF9A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A843-862E-4274-B2BF-46D8A9E3E8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20244-E101-481F-9C2B-0FB243568E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23397-539F-497C-A6B9-A61F6AFD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F297F-4C8F-4C81-8469-6C071512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EE5EA-D7B7-4AB0-B63E-9580BF9B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9DD48-BCBF-4AE5-9822-0BEF65B9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72720"/>
            <a:ext cx="8226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B8570-590A-47BE-80D9-85443910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80A57-FB55-46A5-B98E-C45A9A99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A29D-1460-4599-B6A9-4000D04F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24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65C3B-2BE8-4D19-8E1F-85B09775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78119-FB86-4CAD-903C-EFED21C7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7825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A4749-AA73-4D08-92ED-FB4B5E94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24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5D31B-E0A1-4936-9C11-8CB121B4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820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956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820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956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3224D-5B09-4237-A5DA-D5D358D5D2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E90E-EDE3-40BF-B9FC-7E4973765D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C667-30ED-4616-86A8-C7CC8A4F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B74F-20C3-4EB2-BDAB-1B44EE50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DBC4-55F3-4000-8482-AF642641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7BE3-024F-4466-ABDE-01D6B085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9BCC-40B6-4B21-B677-08998A26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6840" y="72720"/>
            <a:ext cx="8226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1370-266A-48EB-BDFC-BC31681D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016A-7679-4EBE-B77C-83C97690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24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E49C-82D7-4A48-9BE7-BF9D64C9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C7FC-5222-49C7-87C4-22EABBBB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6840" y="37825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88F5-405E-45A1-877B-9298A130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24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0A6B-FBE1-4611-97F4-65D52932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820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1956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684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820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1956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13B4-CA18-4EAF-B759-085210E813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5D5AF-D423-4DF5-B2AC-15E46F1254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828D6-A91C-4F19-A3D1-A36A9B99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B3BE4-D6A8-49DD-80C9-4C35970A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5DB63-85DE-4A01-990B-E984EA98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C855F-4576-4DDB-BD38-AD3657A3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E017C-1B87-45F1-9C39-3C3CDE82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6840" y="72720"/>
            <a:ext cx="8226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D224F-D958-49DF-802B-E335ABEB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2DC1B-0785-4391-BEDD-58447621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24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6DF8A-9FAF-4919-AB12-FB1A5AA2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6A305-9EE1-4509-8600-74A94543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6840" y="37825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E5915-E2BA-4C3E-BFDB-98DFEAB2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24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93F1F-18A3-4158-8B5C-2105B34E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820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1956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684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820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1956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99038-0177-4BD9-95B7-0EF958388E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FDD5CE-5AC8-4C9E-B9AB-D3B5DD1543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ED2F1-C8AA-4DC5-BF65-AC849730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587E6-8239-40C5-AC71-BD2724D7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32F874-BA08-4CFB-9E41-800D0D3D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ABFF86-75FB-4041-AB34-8CA93406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093C33-D990-4EFF-8762-78FCD5CF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72720"/>
            <a:ext cx="8226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57AC94-729C-426F-ADC2-398F0E65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2A3186-BFBC-48D5-A342-2D8D8621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24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50EEA9-1BEB-4E7B-84FF-C2BB30B3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7428DE-7310-406A-A70D-245FC8D0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37825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509F33-52F3-42CC-AD27-B86F4FCD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24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7943B-D427-4F09-BC3A-FCE85A19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72720"/>
            <a:ext cx="8226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EBBFA-CC9A-4E79-A3E3-028F3DA9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820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1956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820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1956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A86337-AF8C-4E65-9CE3-CB900168E8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BE6D5-74AE-402A-A3B5-C4E6692AA0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88A17-AA36-43B0-8319-BED897C4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5DB4F-3727-4A24-A37A-293BBB5C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9A909-FEC1-41EE-A4AC-24D87558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970E7-56B6-44E4-BA71-F5DC5648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6840" y="72720"/>
            <a:ext cx="8226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9E7DE-C949-4F35-AF44-B7A0740A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C8642-AE4E-4D05-87D7-D918B434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24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4AED5-E097-4E67-83D9-683AE55B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F03CD-288F-44E3-A334-9C6A66FE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92ED9-6BA2-4130-91B8-B6D42E08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6840" y="37825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A6D0-B0E6-4019-9FA8-79463FA0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24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19F0C-C3C7-4160-8F87-219B0668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820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1956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684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820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1956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9D4D7-3EC7-4E12-8EF3-6E046C013A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2DDF2-BBAB-492A-A561-3EC9A33581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47E530-942A-42E9-A3BF-A5D51B9E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133765-E76F-49E8-A690-B8D3F4E9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F2DFD-6513-4930-8C58-34C0AF57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1A04A-CF8E-438B-B180-1AA3B915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6840" y="72720"/>
            <a:ext cx="8226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6C086-F71D-4144-B874-95625018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4F83B-0A13-42E4-8983-26085D5A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7CF5D-2615-45F3-AE54-7E430067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24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1D933-FECA-4477-BF7B-0CA040F5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647E1-93D3-4480-BBCD-80A08B86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6840" y="37825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EE905-B82B-4AF6-918A-2E831226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24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F6FE4-9B73-4F54-809D-B0F2EA93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820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1956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684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820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1956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E8E9B-2441-4B4C-ADB6-837DA2D746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44FC8B-E37E-4031-88FA-3A54C86F00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2818D3-DE06-471D-8662-8CE42AD1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6A5B89-FDD4-4847-8E1F-35F36E35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A5872C-9378-4DD5-8147-8419B39F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5B568C-DE77-47B6-AB38-58DECA77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6DE3C-B32E-47D5-8941-B1138B90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6840" y="72720"/>
            <a:ext cx="8226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DC971C-3C01-49CA-B8F4-C4583303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CB87CB-8172-4067-A262-2030E724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24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DFA75A-C49C-4DF2-A444-6E670CC6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F1A738-9524-418C-8064-DD42703B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6840" y="3782520"/>
            <a:ext cx="822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F807E1-E485-4C82-B05D-D210FE8D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2440" y="12193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2440" y="3782520"/>
            <a:ext cx="4014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33D037-F15E-49A8-9989-D9FAA544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820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19560" y="12193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684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820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19560" y="3782520"/>
            <a:ext cx="2648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4937B4-9401-406B-8DBF-24C1D96572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356520"/>
            <a:ext cx="2286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898720" y="6356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12360" y="6356520"/>
            <a:ext cx="19782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640A0-B658-42B1-88E6-DAECCF2BFE44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42192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400440" y="6354720"/>
            <a:ext cx="2282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1216080" y="6354720"/>
            <a:ext cx="1216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8D08645-569B-4CAD-958E-C6C05C8749E4}" type="slidenum"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400440" y="6354720"/>
            <a:ext cx="2282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1069920" y="6354720"/>
            <a:ext cx="1517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519A583-3713-48DA-94C9-1B2ED6C358D8}" type="slidenum">
              <a:rPr b="0" lang="pl-PL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2192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2192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400800" y="6356160"/>
            <a:ext cx="22860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612360" y="6356160"/>
            <a:ext cx="19782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CE3DC3D-02E9-41F1-BB96-99A5655426C0}" type="slidenum"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42192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400800" y="6356160"/>
            <a:ext cx="22860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612360" y="6356160"/>
            <a:ext cx="19782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2FB0FC9-DE04-46B7-8DCB-A871EBE5ED1E}" type="slidenum"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78680" y="306360"/>
            <a:ext cx="144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42192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400800" y="6356160"/>
            <a:ext cx="22860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612360" y="6356160"/>
            <a:ext cx="19782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61F3FFC-F7E2-4210-B5BF-887DD28B39E8}" type="slidenum"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42192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400800" y="6356160"/>
            <a:ext cx="22860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612360" y="6356160"/>
            <a:ext cx="19782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EDA9776-00DD-46C6-BC53-297CB850F7F3}" type="slidenum">
              <a:rPr b="0" lang="pl-PL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42192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56320" y="276120"/>
            <a:ext cx="180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727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22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5"/>
          </p:nvPr>
        </p:nvSpPr>
        <p:spPr>
          <a:xfrm>
            <a:off x="6400800" y="6356160"/>
            <a:ext cx="22860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6"/>
          </p:nvPr>
        </p:nvSpPr>
        <p:spPr>
          <a:xfrm>
            <a:off x="612360" y="6356160"/>
            <a:ext cx="19782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CAA115-9B8D-451B-9B9B-6EF5D801C354}" type="slidenum">
              <a:rPr b="0" lang="pl-P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42920" y="981000"/>
            <a:ext cx="68580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UGNIW</a:t>
            </a:r>
            <a:br>
              <a:rPr sz="4000"/>
            </a:br>
            <a:r>
              <a:rPr b="1" lang="en-US" sz="2600" spc="-1" strike="noStrike">
                <a:solidFill>
                  <a:srgbClr val="464653"/>
                </a:solidFill>
                <a:latin typeface="Arial Black"/>
              </a:rPr>
              <a:t>najmniejsze miasto na Ukrain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87280" y="3789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 Black"/>
              </a:rPr>
              <a:t>Wsparcie udzielone przez Norwegię poprzez dofinansowanie ze środków Norweskiego Mechanizmu Finansowego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 Black"/>
              </a:rPr>
              <a:t>w ramach Programu Wsparcia Inicjatyw Transgranicznych w Euroregionie Bug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 Black"/>
              </a:rPr>
              <a:t>"</a:t>
            </a:r>
            <a:r>
              <a:rPr b="1" lang="uk-UA" sz="1200" spc="-1" strike="noStrike">
                <a:solidFill>
                  <a:srgbClr val="000000"/>
                </a:solidFill>
                <a:latin typeface="Arial Black"/>
              </a:rPr>
              <a:t>Współpraca transgraniczna Werbkowice - Ugniw</a:t>
            </a:r>
            <a:r>
              <a:rPr b="1" lang="pl-PL" sz="1200" spc="-1" strike="noStrike">
                <a:solidFill>
                  <a:srgbClr val="000000"/>
                </a:solidFill>
                <a:latin typeface="Arial Black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258920" y="5229360"/>
            <a:ext cx="790560" cy="3618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780000" y="5229360"/>
            <a:ext cx="2104920" cy="3618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7667640" y="5229360"/>
            <a:ext cx="361800" cy="36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800" spc="-1" strike="noStrike">
                <a:solidFill>
                  <a:srgbClr val="464653"/>
                </a:solidFill>
                <a:latin typeface="Arial"/>
              </a:rPr>
              <a:t>Історі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2960" y="1219320"/>
            <a:ext cx="804384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то Угнів згадується у “Повісті временних літ” (найдавнішому українському літописі) від 1030 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же у ті часи у місті працювали шевський, ковальський, гончарський, кушнірський, та ткацький це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то входило до Белзької оборонної округи. І згадується серед Червенських городів таких як Червень, Волиня та Бел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 1340 року, разом з Белзьким князівством Угнів перейшов у спадок до Литовських князів. 1360 року князь Теодор Любартович заснував Угнівський монастир для поляків та латинни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464653"/>
                </a:solidFill>
                <a:latin typeface="Arial"/>
              </a:rPr>
              <a:t>Histor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2960" y="1268280"/>
            <a:ext cx="804384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 roku 1366 Ugniw znajdo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 s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zie Korony Pol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wo Magdeburskie nad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azimierz IV w roku 14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roku 1772 razem z innymi ok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i wchodzi do s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u cesarstwa Austriackiego, a p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j Austro-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erski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roku 1800 zost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tworzony powiat Ugniows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ku 1880 zost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ybudowana stacja ko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jow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 wybuchem Pierwszej wojn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atowej wybudowano i otwarto 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toro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l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gniw-Ul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h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k-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zcz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-Hrubiesz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800" spc="-1" strike="noStrike">
                <a:solidFill>
                  <a:srgbClr val="464653"/>
                </a:solidFill>
                <a:latin typeface="Arial"/>
              </a:rPr>
              <a:t>Історі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2960" y="1268280"/>
            <a:ext cx="804384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 1366 року Угнів знаходився під владою Польщ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гдебурзьке право надав Казими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у 1462 ро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1772 році разом з іншими територіями переходить під владу Австрійської, а пізніше Австро-Угорської імпер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800 року було утворено Угнівський пові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880 року збудована залізнична станці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д Першою світовою війною була збудована і запрацювала вузькоколійна залізниц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Угнів-Ульгівок-Лашів-Грубеш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464653"/>
                </a:solidFill>
                <a:latin typeface="Arial"/>
              </a:rPr>
              <a:t>Histor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2960" y="1268280"/>
            <a:ext cx="8043840" cy="57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wybuchem I wojn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atowej carskie wojska zdobyli Ugniw 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cjonował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 do 15 czerwca 1915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 o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zeniu w 1918 roku Ukrainskiej Republiki Ludowej w Ugniw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ost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tworzony komisariat powiatow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1919-1939 latach Ugniw znajdo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 p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wie Polsk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9-1941 lata okupac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owieckiej. Ugniw b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edz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jo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1-1944 lata okupacji Niemieckiej oraz totalna eksterminac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ud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dowskiej ( do II wojn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atowej b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w Ugniwie 1880 o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800" spc="-1" strike="noStrike">
                <a:solidFill>
                  <a:srgbClr val="464653"/>
                </a:solidFill>
                <a:latin typeface="Arial"/>
              </a:rPr>
              <a:t>Історі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2960" y="1268280"/>
            <a:ext cx="804384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 вибухом Першої світової війни російські царські війська захопили Угнів і перебували тут до 15 червня 1915 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 проголошенням 1918 року Західно-Української Народної Республіки в Угнові було створено повітовий комісарі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919-1939 роки Угнів знаходився під владою Польщ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939-1941 роки Радянської окупації. Угнів був районним цен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941-1944 роки Німецьке панування і практично цілковите знищення єврейського населення (до війни їх проживало в Угнові 1880 осі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464653"/>
                </a:solidFill>
                <a:latin typeface="Arial"/>
              </a:rPr>
              <a:t>Histor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2960" y="1268280"/>
            <a:ext cx="804384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 roku 1944 Ugniw znajdo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 s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zie Polski 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czasu d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en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ZSSR w roku 195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449520" cy="4248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3924360" y="2133720"/>
            <a:ext cx="504036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800" spc="-1" strike="noStrike">
                <a:solidFill>
                  <a:srgbClr val="464653"/>
                </a:solidFill>
                <a:latin typeface="Arial"/>
              </a:rPr>
              <a:t>Історі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2960" y="1268280"/>
            <a:ext cx="804384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 1944 року Угнів знаходився під владою Польщі аж до часу поновленого прилучення до СРСР у 1951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449520" cy="4248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3924360" y="2133720"/>
            <a:ext cx="504036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Interesuj</a:t>
            </a:r>
            <a:r>
              <a:rPr b="1" lang="pl-PL" sz="4500" spc="-1" strike="noStrike">
                <a:solidFill>
                  <a:srgbClr val="464653"/>
                </a:solidFill>
                <a:latin typeface="Arial"/>
              </a:rPr>
              <a:t>ą</a:t>
            </a: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ce ob</a:t>
            </a:r>
            <a:r>
              <a:rPr b="1" lang="pl-PL" sz="4500" spc="-1" strike="noStrike">
                <a:solidFill>
                  <a:srgbClr val="464653"/>
                </a:solidFill>
                <a:latin typeface="Arial"/>
              </a:rPr>
              <a:t>i</a:t>
            </a: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ekty</a:t>
            </a:r>
            <a:r>
              <a:rPr b="1" lang="uk-UA" sz="4500" spc="-1" strike="noStrike">
                <a:solidFill>
                  <a:srgbClr val="464653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09640" y="900000"/>
            <a:ext cx="782964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7144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erkiew Narodzenia NMP (1855-1857</a:t>
            </a:r>
            <a:r>
              <a:rPr b="0" lang="pl-PL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a)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7144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zwonnica drewniana 1780</a:t>
            </a:r>
            <a:r>
              <a:rPr b="0" lang="pl-PL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oku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7144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osci</a:t>
            </a:r>
            <a:r>
              <a:rPr b="0" lang="pl-PL" sz="4200" spc="-1" strike="noStrike">
                <a:solidFill>
                  <a:srgbClr val="000000"/>
                </a:solidFill>
                <a:latin typeface="Arial"/>
              </a:rPr>
              <a:t>ół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Wniebowzi</a:t>
            </a:r>
            <a:r>
              <a:rPr b="0" lang="pl-PL" sz="4200" spc="-1" strike="noStrike">
                <a:solidFill>
                  <a:srgbClr val="000000"/>
                </a:solidFill>
                <a:latin typeface="Arial"/>
              </a:rPr>
              <a:t>ęc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a NMP (XVII wieku)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7144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ynagoga XIX wieku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7144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500" spc="-1" strike="noStrike">
                <a:solidFill>
                  <a:srgbClr val="464653"/>
                </a:solidFill>
                <a:latin typeface="Arial"/>
              </a:rPr>
              <a:t>Цікаві об'єкти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57160" y="1219320"/>
            <a:ext cx="782964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Церква Різдва Пресвятої Богородиці (1855-1857 рр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Дерев'яна дзвіниця 1780 р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Костел Успіня Богородиці (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ст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Синагога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ст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Przedsi</a:t>
            </a:r>
            <a:r>
              <a:rPr b="1" lang="pl-PL" sz="4500" spc="-1" strike="noStrike">
                <a:solidFill>
                  <a:srgbClr val="464653"/>
                </a:solidFill>
                <a:latin typeface="Arial"/>
              </a:rPr>
              <a:t>ę</a:t>
            </a: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biorczo</a:t>
            </a:r>
            <a:r>
              <a:rPr b="1" lang="pl-PL" sz="4500" spc="-1" strike="noStrike">
                <a:solidFill>
                  <a:srgbClr val="464653"/>
                </a:solidFill>
                <a:latin typeface="Arial"/>
              </a:rPr>
              <a:t>ść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2960" y="1219320"/>
            <a:ext cx="804384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el 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mio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ożywcze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bli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b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i przerabianie produkcji rolniczej (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n, mleczarnia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ata 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zkoła zawodow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k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podstawow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a Zdrowot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zpital, klini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z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042920" y="981000"/>
            <a:ext cx="68580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 Black"/>
              </a:rPr>
              <a:t>УГНІВ</a:t>
            </a:r>
            <a:br>
              <a:rPr sz="4000"/>
            </a:br>
            <a:r>
              <a:rPr b="1" lang="uk-UA" sz="2600" spc="-1" strike="noStrike">
                <a:solidFill>
                  <a:srgbClr val="464653"/>
                </a:solidFill>
                <a:latin typeface="Arial Black"/>
              </a:rPr>
              <a:t>найменше місто в Україн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87280" y="3789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 Black"/>
              </a:rPr>
              <a:t>Wsparcie udzielone przez Norwegię poprzez dofinansowanie ze środków Norweskiego Mechanizmu Finansowego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 Black"/>
              </a:rPr>
              <a:t>w ramach Programu Wsparcia Inicjatyw Transgranicznych w Euroregionie Bug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 Black"/>
              </a:rPr>
              <a:t>"</a:t>
            </a:r>
            <a:r>
              <a:rPr b="1" lang="uk-UA" sz="1200" spc="-1" strike="noStrike">
                <a:solidFill>
                  <a:srgbClr val="000000"/>
                </a:solidFill>
                <a:latin typeface="Arial Black"/>
              </a:rPr>
              <a:t>Współpraca transgraniczna Werbkowice - Ugniw</a:t>
            </a:r>
            <a:r>
              <a:rPr b="1" lang="pl-PL" sz="1200" spc="-1" strike="noStrike">
                <a:solidFill>
                  <a:srgbClr val="000000"/>
                </a:solidFill>
                <a:latin typeface="Arial Black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258920" y="5229360"/>
            <a:ext cx="790560" cy="3618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780000" y="5229360"/>
            <a:ext cx="2104920" cy="3618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7667640" y="5229360"/>
            <a:ext cx="361800" cy="36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500" spc="-1" strike="noStrike">
                <a:solidFill>
                  <a:srgbClr val="464653"/>
                </a:solidFill>
                <a:latin typeface="Arial"/>
              </a:rPr>
              <a:t>Підприємництво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2960" y="1219320"/>
            <a:ext cx="804384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оргівл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ш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клади харчуванн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готовлення меблів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бір та переробка сільськогосподарської продукції (млин, молочарня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віта (Професійно-технічне училище, школа, дитячий садоч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дицина (лікарня, поліклініка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ш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ан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Statystyka ilo</a:t>
            </a:r>
            <a:r>
              <a:rPr b="1" lang="pl-PL" sz="4500" spc="-1" strike="noStrike">
                <a:solidFill>
                  <a:srgbClr val="464653"/>
                </a:solidFill>
                <a:latin typeface="Arial"/>
              </a:rPr>
              <a:t>ś</a:t>
            </a: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ci ludno</a:t>
            </a:r>
            <a:r>
              <a:rPr b="1" lang="pl-PL" sz="4500" spc="-1" strike="noStrike">
                <a:solidFill>
                  <a:srgbClr val="464653"/>
                </a:solidFill>
                <a:latin typeface="Arial"/>
              </a:rPr>
              <a:t>ś</a:t>
            </a: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ci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85880" y="1219320"/>
            <a:ext cx="79009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869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400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o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0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500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24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357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31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3639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39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390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87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220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9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170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200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120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500" spc="-1" strike="noStrike">
                <a:solidFill>
                  <a:srgbClr val="464653"/>
                </a:solidFill>
                <a:latin typeface="Arial"/>
              </a:rPr>
              <a:t>Не втішна статистика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5880" y="1219320"/>
            <a:ext cx="79009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869 року – 4003 ос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00 року – 5000 осі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24 року – 3575 осі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31 року – 3639 осі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39 року – 3900 осі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87 року – 2200 осі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990 року – 1700 осі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2000 року – 1200 осі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464653"/>
                </a:solidFill>
                <a:latin typeface="Arial"/>
              </a:rPr>
              <a:t>Perspektywa rozwoju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85880" y="1219320"/>
            <a:ext cx="790092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zenie do B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ego P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wowego historycznego rezerwa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cja pro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t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 wspo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y miedzynarodowe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w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 turysty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worzenie warunk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 dla rozwoju m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o biznes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worzenie projekt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 inwestycyjnych oraz z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zenie do nich potenc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nych inwestor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500" spc="-1" strike="noStrike">
                <a:solidFill>
                  <a:srgbClr val="464653"/>
                </a:solidFill>
                <a:latin typeface="Arial"/>
              </a:rPr>
              <a:t>Перспективи розвитк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85880" y="1219320"/>
            <a:ext cx="790092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ключення в Белзький Державний історико-архітектурний запові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алізація проектів міжнародного співробітниц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иток тур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ворення передумов для розвитку малого підприємниц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робка інвестиційних проектів та пошук потенційних інвесто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1219320"/>
            <a:ext cx="822960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Dziękujemy za uwag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9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7000" spc="-1" strike="noStrike">
                <a:solidFill>
                  <a:srgbClr val="00b050"/>
                </a:solidFill>
                <a:latin typeface="Calibri"/>
              </a:rPr>
              <a:t>Дякуємо за увагу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464653"/>
                </a:solidFill>
                <a:latin typeface="Cambria"/>
              </a:rPr>
              <a:t>Miejsce po</a:t>
            </a:r>
            <a:r>
              <a:rPr b="1" lang="pl-PL" sz="4500" spc="-1" strike="noStrike">
                <a:solidFill>
                  <a:srgbClr val="464653"/>
                </a:solidFill>
                <a:latin typeface="Cambria"/>
              </a:rPr>
              <a:t>ł</a:t>
            </a:r>
            <a:r>
              <a:rPr b="1" lang="en-US" sz="4500" spc="-1" strike="noStrike">
                <a:solidFill>
                  <a:srgbClr val="464653"/>
                </a:solidFill>
                <a:latin typeface="Cambria"/>
              </a:rPr>
              <a:t>o</a:t>
            </a:r>
            <a:r>
              <a:rPr b="1" lang="pl-PL" sz="4500" spc="-1" strike="noStrike">
                <a:solidFill>
                  <a:srgbClr val="464653"/>
                </a:solidFill>
                <a:latin typeface="Cambria"/>
              </a:rPr>
              <a:t>ż</a:t>
            </a:r>
            <a:r>
              <a:rPr b="1" lang="en-US" sz="4500" spc="-1" strike="noStrike">
                <a:solidFill>
                  <a:srgbClr val="464653"/>
                </a:solidFill>
                <a:latin typeface="Cambria"/>
              </a:rPr>
              <a:t>enia…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1500120"/>
            <a:ext cx="840096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38120" indent="-3477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812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42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Po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ł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o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ż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one na zachodzie Ukra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3477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812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42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W Sokalskim powiecie, znajduje si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ę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 na p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ół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nocy obwodu Lwowsk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3477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812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42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Na brzegu rzeki Solokiji (lewego dop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ł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ywu B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ó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gu Zachodnieg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3477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812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42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Prawie na granicy pa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ń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stwowej Ukrainy z Rzecz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y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pospolit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ą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 Polska, kt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ó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ra wchodzi do sk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ł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adu Unii Europejskie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812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421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812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421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812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421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27144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812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421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500" spc="-1" strike="noStrike">
                <a:solidFill>
                  <a:srgbClr val="464653"/>
                </a:solidFill>
                <a:latin typeface="Cambria"/>
              </a:rPr>
              <a:t>Місце розташування …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500120"/>
            <a:ext cx="8400960" cy="68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39560" indent="-3492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Розташоване на заході Украї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9560" indent="-3492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В Сокальському районі, що знаходиться на півночі  Львівської обла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9560" indent="-3492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На березі річки Солокії (лівої притоки Західного Буг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9560" indent="-3492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Практично на Державному кордоні України з Республікою Польщею яка входить в Європейський Сою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9560" indent="-349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9560" indent="-349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9560" indent="-349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464653"/>
                </a:solidFill>
                <a:latin typeface="Cambria"/>
              </a:rPr>
              <a:t>Miejsce po</a:t>
            </a:r>
            <a:r>
              <a:rPr b="1" lang="pl-PL" sz="4500" spc="-1" strike="noStrike">
                <a:solidFill>
                  <a:srgbClr val="464653"/>
                </a:solidFill>
                <a:latin typeface="Cambria"/>
              </a:rPr>
              <a:t>ł</a:t>
            </a:r>
            <a:r>
              <a:rPr b="1" lang="en-US" sz="4500" spc="-1" strike="noStrike">
                <a:solidFill>
                  <a:srgbClr val="464653"/>
                </a:solidFill>
                <a:latin typeface="Cambria"/>
              </a:rPr>
              <a:t>o</a:t>
            </a:r>
            <a:r>
              <a:rPr b="1" lang="pl-PL" sz="4500" spc="-1" strike="noStrike">
                <a:solidFill>
                  <a:srgbClr val="464653"/>
                </a:solidFill>
                <a:latin typeface="Cambria"/>
              </a:rPr>
              <a:t>ż</a:t>
            </a:r>
            <a:r>
              <a:rPr b="1" lang="en-US" sz="4500" spc="-1" strike="noStrike">
                <a:solidFill>
                  <a:srgbClr val="464653"/>
                </a:solidFill>
                <a:latin typeface="Cambria"/>
              </a:rPr>
              <a:t>enia</a:t>
            </a:r>
            <a:r>
              <a:rPr b="1" lang="uk-UA" sz="4500" spc="-1" strike="noStrike">
                <a:solidFill>
                  <a:srgbClr val="464653"/>
                </a:solidFill>
                <a:latin typeface="Cambria"/>
              </a:rPr>
              <a:t> …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1500120"/>
            <a:ext cx="840096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4136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13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13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13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27144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13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500" spc="-1" strike="noStrike">
                <a:solidFill>
                  <a:srgbClr val="464653"/>
                </a:solidFill>
                <a:latin typeface="Cambria"/>
              </a:rPr>
              <a:t>Місце розташування …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1500120"/>
            <a:ext cx="840096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41360" indent="-349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13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349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13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349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13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13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464653"/>
                </a:solidFill>
                <a:latin typeface="Cambria"/>
              </a:rPr>
              <a:t>Ludno</a:t>
            </a:r>
            <a:r>
              <a:rPr b="1" lang="pl-PL" sz="4500" spc="-1" strike="noStrike">
                <a:solidFill>
                  <a:srgbClr val="464653"/>
                </a:solidFill>
                <a:latin typeface="Cambria"/>
              </a:rPr>
              <a:t>ść</a:t>
            </a:r>
            <a:r>
              <a:rPr b="1" lang="uk-UA" sz="4500" spc="-1" strike="noStrike">
                <a:solidFill>
                  <a:srgbClr val="464653"/>
                </a:solidFill>
                <a:latin typeface="Cambria"/>
              </a:rPr>
              <a:t> …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1509840"/>
            <a:ext cx="840096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38120" indent="-3477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812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42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Razem</a:t>
            </a:r>
            <a:r>
              <a:rPr b="1" lang="uk-UA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 1115 </a:t>
            </a: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os</a:t>
            </a:r>
            <a:r>
              <a:rPr b="1" lang="pl-PL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ó</a:t>
            </a: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b.</a:t>
            </a:r>
            <a:r>
              <a:rPr b="1" lang="uk-UA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3477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812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42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1021</a:t>
            </a:r>
            <a:r>
              <a:rPr b="1" lang="pl-PL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 </a:t>
            </a: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mieszka</a:t>
            </a:r>
            <a:r>
              <a:rPr b="1" lang="pl-PL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ń</a:t>
            </a: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c</a:t>
            </a:r>
            <a:r>
              <a:rPr b="1" lang="pl-PL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ó</a:t>
            </a: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w w miasteczku Ugniw i 94 we wsi Zastaw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3477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812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42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Po</a:t>
            </a:r>
            <a:r>
              <a:rPr b="1" lang="pl-PL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ł</a:t>
            </a: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o</a:t>
            </a:r>
            <a:r>
              <a:rPr b="1" lang="pl-PL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ż</a:t>
            </a: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one na przestrzeni 302ha (w tym na wiosk</a:t>
            </a:r>
            <a:r>
              <a:rPr b="1" lang="pl-PL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ę</a:t>
            </a: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 Zastawne przypada 54h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812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421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812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421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27144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812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421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500" spc="-1" strike="noStrike">
                <a:solidFill>
                  <a:srgbClr val="464653"/>
                </a:solidFill>
                <a:latin typeface="Cambria"/>
              </a:rPr>
              <a:t>Населення …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" y="1500120"/>
            <a:ext cx="8400960" cy="58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39560" indent="-3492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1021 мешканець у місті Угнів та 94 у селі Заставне. Разом 1115 осіб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9560" indent="-3492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800" spc="-1" strike="noStrike">
                <a:solidFill>
                  <a:srgbClr val="0070c0"/>
                </a:solidFill>
                <a:latin typeface="Calibri"/>
                <a:ea typeface="Lucida Sans Unicode"/>
              </a:rPr>
              <a:t>Розташоване на площі в 302 га (з яких на село Заставне припадає 54 г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9560" indent="-349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9560" indent="-349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464653"/>
                </a:solidFill>
                <a:latin typeface="Arial"/>
              </a:rPr>
              <a:t>Histor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2960" y="1219320"/>
            <a:ext cx="80438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erwsza wzmianka o Ugniwie pojawiła się już w 1030 roku 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Pow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wriemiennych lat" ( najdawniejszym latopisie Ukrainy ) od 1030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u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 tych c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ch w m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e znajdo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chy szewski, kowalski, gancarski, kuśnierski, tkac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asto wchodz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do B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go k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wa. I wspomina 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takich gro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Czerw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ch, jak Czerw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 roku 1340 razem z k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wem B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kim Ugniw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hodzi do dziedzictwa k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ż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Litewskich. Roku 1360 k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ż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odor Lubartowicz z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lasztor Uniowski obr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u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nski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06:00:05Z</dcterms:created>
  <dc:creator>IBM</dc:creator>
  <dc:description/>
  <dc:language>en-US</dc:language>
  <cp:lastModifiedBy>Admin</cp:lastModifiedBy>
  <dcterms:modified xsi:type="dcterms:W3CDTF">2010-06-24T12:04:36Z</dcterms:modified>
  <cp:revision>20</cp:revision>
  <dc:subject/>
  <dc:title>Доступність коштів Європейського Союзу для України</dc:title>
</cp:coreProperties>
</file>